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2.wmf" ContentType="image/x-wmf"/>
  <Override PartName="/ppt/media/image3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8D2D0-4751-49A4-B554-252EA2C14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45618-421F-433A-BABD-0357CB8F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D62D4-6B95-4FE2-8350-74C3CCBDC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A48D4-62BB-4A61-9A78-0D98B91DF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310B-6B2C-4679-9B35-105F4EFD8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4F0D-A161-41CF-85D6-05C2008A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3D90-4C76-4772-814B-8280BB99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7F4F-78EE-4834-AD0F-08D38FBF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C40A-ABCF-4FBA-999C-D719BC85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FFDA-90F6-4CEF-BA07-7258FC0E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2B17-0090-48AB-86CC-EEDE2EA1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674C5-DA04-4A98-8E12-B4EB2A10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844E-A45A-49E1-AB8A-4AC1B15D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3E40-FC3E-4A8D-98C0-5D27C9FD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D75F-DE88-4875-A4C2-D396AA21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E160-C164-41F2-87CA-1AC5D7789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A574-323C-410A-AAC2-C3B2B7036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51846-8519-41B7-9958-B3741A3F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42B30-B215-40C1-8010-AA1EAA08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1E4B8-9F5C-4173-8248-654DBA72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A1BEB-ED0E-4074-AB59-E83EE267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84300-77BB-4884-BD29-3CCF50E9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56757-C6EF-4ACF-8DBC-86829C7A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ACE50-0D98-4909-9588-2EDDB69A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1324-4232-431A-8800-F445EBCEE3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AE53-E90A-4D51-919E-0F7A8AF958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file:///tmp/home/.config/libreoffice/4/user/gallery/MSSN00716A0000%5B1%5D.wav" TargetMode="External"/><Relationship Id="rId3" Type="http://schemas.microsoft.com/office/2007/relationships/media" Target="file:///tmp/home/.config/libreoffice/4/user/gallery/MSSN00716A0000%5B1%5D.wav" TargetMode="External"/><Relationship Id="rId4" Type="http://schemas.openxmlformats.org/officeDocument/2006/relationships/image" Target="../media/image16.png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he Strongest One</a:t>
            </a:r>
            <a:br>
              <a:rPr sz="4500"/>
            </a:b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Vocabulary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cond Grade Read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turd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ong and soli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00400" y="30481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768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0" dur="768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2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4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exhibi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mething set up for you to look at in a place like a museum or zo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2075040" cy="2352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095880" y="3200400"/>
            <a:ext cx="2454480" cy="2595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resis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rking against because you don’t want t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029200" y="2971800"/>
            <a:ext cx="2851200" cy="2895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tu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cked and very surpris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315200" y="2895480"/>
            <a:ext cx="1393920" cy="1771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33520" y="2819520"/>
            <a:ext cx="1482480" cy="1917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3733920" y="3505320"/>
            <a:ext cx="1968480" cy="1825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98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geniu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meone who is very, very smar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581280" y="3276720"/>
            <a:ext cx="218916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atisfac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eased and contented with someth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657600" y="3200400"/>
            <a:ext cx="2016000" cy="27399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1880" y="380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7010280" y="3048120"/>
            <a:ext cx="1629000" cy="17064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76320" y="2209680"/>
            <a:ext cx="1955520" cy="10414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533520" y="4038480"/>
            <a:ext cx="838080" cy="1797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100"/>
                            </p:stCondLst>
                            <p:childTnLst>
                              <p:par>
                                <p:cTn id="2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0" dur="1134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0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Vocabular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angerou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naw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arrato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relativ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dangerou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saf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124080" y="2895480"/>
            <a:ext cx="3810240" cy="2387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7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gnaw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ting and wearing away by bit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657600" y="3200400"/>
            <a:ext cx="3208320" cy="299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narrato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person who tells a story or pl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200400" y="2949480"/>
            <a:ext cx="3276720" cy="2808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68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68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6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6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relativ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people who belong to the same family as you d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00400" y="3276720"/>
            <a:ext cx="31240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mazing Word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lic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qui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ur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hibi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i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u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i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tisf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delicat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mething that is thin and easily broke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203040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inquir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ask questions or try to find out someth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277668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02:44:01Z</dcterms:created>
  <dc:creator> </dc:creator>
  <dc:description/>
  <dc:language>en-US</dc:language>
  <cp:lastModifiedBy> </cp:lastModifiedBy>
  <dcterms:modified xsi:type="dcterms:W3CDTF">2007-09-28T03:33:39Z</dcterms:modified>
  <cp:revision>3</cp:revision>
  <dc:subject/>
  <dc:title>The Strongest One Vocabulary</dc:title>
</cp:coreProperties>
</file>